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89D-1DAF-401B-B954-1C93BC14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8EF-90D0-4B93-B39F-B7ED1E7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D69-B5A9-412C-8186-07DE07EB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10F-2BA1-4ACA-9B0D-99E7234B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16A4-5A2D-45F4-8A9C-A584988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02E0-D619-4461-907B-765A4FE7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C2B5-8CC5-463B-805B-8A06CE0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F9F2-B82B-449E-8473-32B626CA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B7F3-5923-4BD5-BDC9-ADFE3B4B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638D-57C7-4A26-8C91-98D3E62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8EAF-E8B3-4B1B-BCEC-00BA227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1F6-9D0A-404A-A471-9C51456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E5BB-D4E0-494B-A94B-26DC748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5123-3220-4F1E-A39E-FE25EFD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F2F-37A7-4376-83A6-D2694C5B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F56A-01A0-4B03-97F2-A579A50A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2845-35B1-408F-AFD6-E28AABD9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0DC-335C-450F-B679-FD4284B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874-3047-4DEC-8CCD-E710E791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032-78A7-49FD-B20E-9ACB4922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847-FBEA-4D5F-9069-AAB3516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69F-9D49-47E5-9EFC-02EDC0E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B61-447B-4420-8599-40413D8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970-1AD9-4B0F-B078-5FB6769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A538-DA3C-41F9-A1C5-DD43D1ADA0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692F-F5AC-4E5D-805D-23C8BEFFB9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usculoskeletal System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nervouse system 2"/>
          <p:cNvPicPr/>
          <p:nvPr/>
        </p:nvPicPr>
        <p:blipFill>
          <a:blip r:embed="rId1"/>
          <a:stretch/>
        </p:blipFill>
        <p:spPr>
          <a:xfrm>
            <a:off x="2192400" y="304920"/>
            <a:ext cx="4991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Therefor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body is system of levers, which are made up of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bon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. The junction between the bones are called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joint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which are the points around which the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muscle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provide force to produce movement under the control of the </a:t>
            </a: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nervou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ajor systems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Skeletal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skeletal system"/>
          <p:cNvPicPr/>
          <p:nvPr/>
        </p:nvPicPr>
        <p:blipFill>
          <a:blip r:embed="rId1"/>
          <a:stretch/>
        </p:blipFill>
        <p:spPr>
          <a:xfrm>
            <a:off x="2133720" y="228600"/>
            <a:ext cx="5294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Joi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joints"/>
          <p:cNvPicPr/>
          <p:nvPr/>
        </p:nvPicPr>
        <p:blipFill>
          <a:blip r:embed="rId1"/>
          <a:stretch/>
        </p:blipFill>
        <p:spPr>
          <a:xfrm>
            <a:off x="1371600" y="461880"/>
            <a:ext cx="64771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Muscu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uscles1"/>
          <p:cNvPicPr/>
          <p:nvPr/>
        </p:nvPicPr>
        <p:blipFill>
          <a:blip r:embed="rId1"/>
          <a:stretch/>
        </p:blipFill>
        <p:spPr>
          <a:xfrm>
            <a:off x="2043000" y="-66600"/>
            <a:ext cx="484344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Nervous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nervouse system"/>
          <p:cNvPicPr/>
          <p:nvPr/>
        </p:nvPicPr>
        <p:blipFill>
          <a:blip r:embed="rId1"/>
          <a:stretch/>
        </p:blipFill>
        <p:spPr>
          <a:xfrm>
            <a:off x="1900080" y="0"/>
            <a:ext cx="534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1:38:42Z</dcterms:created>
  <dc:creator>Warrick Batrall</dc:creator>
  <dc:description/>
  <dc:language>en-US</dc:language>
  <cp:lastModifiedBy>Lyn Clarkson</cp:lastModifiedBy>
  <dcterms:modified xsi:type="dcterms:W3CDTF">2009-10-20T21:58:10Z</dcterms:modified>
  <cp:revision>5</cp:revision>
  <dc:subject/>
  <dc:title>Musculoskeletal System </dc:title>
</cp:coreProperties>
</file>